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702-1A6D-4B6B-A09D-18606B8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C74-21D4-404A-AB10-5887E8B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966B2-2CF9-4AA7-86E0-D176E0A6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CBFF-D52D-45CD-8952-91E658E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FA71B-A19D-4DF1-B522-B41F82E0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E5BD7-4115-4B2C-8574-1BABCC67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26406-AD2E-4486-A7D8-D449D16B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D40E9-6283-4D86-9330-5343D26C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802A8-DB23-4640-B2DA-2105FF8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0AB27-3670-4F63-BCAE-3DA40B56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BAFD4-8B63-4B2D-AB02-0625B3A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255AB-DD8E-4680-A33D-AFB0E9D8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77A-C9AD-498C-9DBB-99C638ED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8BDFF-A7C9-4CB6-9147-96E38DF5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8D522-2874-427B-8968-DC09FB2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03220-20F8-4311-A368-02399F47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9698-BCE6-4A03-9E99-7BBFA6A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00131-7C2A-403B-9544-7B2EA9F5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11220-2CE6-44EE-92C4-3EF8AB2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6CF76-5698-463A-83C6-152A48A3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6AC53-9BE2-41B6-B7A7-FD930B83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F71C0-CFBF-4741-A5F6-325ADCB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88FE5-59FB-4EFE-88C6-BBC36C70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0F5-2A28-47EA-B8BE-CBA2FE7D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60E1-53FE-49D5-A4EE-FB9B025D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417DE-9182-458C-AD61-389D1306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5F4CA-C653-4025-9D5C-DA83B028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2D4C8-92AC-40E5-B912-641C92E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3DE41-0A4E-4FED-AE73-60BAECE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16199-2F38-4CBC-82E2-0810C498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B1E8-F423-4802-8131-CE7772C2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7D4E8-DF3B-4FE7-93EA-8701343F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D1C7-18CB-4B09-B110-3FB68F7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54BDB-CA7A-4197-9682-68141EB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765-9FFE-4149-9A95-0BD8D7B4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01D08-ABEB-4543-9717-95FE698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F65A5-A3BC-4E83-BA75-DA835B4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ABDFA-85F4-47E0-8A3D-334A6F46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3AE73-6389-46A0-BB55-1966A982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E75D8-AB8D-4090-87D0-6988175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6B0E-9390-4C82-956F-24317DB8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D1881-74DB-4DE2-9A20-3E7ED043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ECACA-2306-48CD-A3FD-710383E4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781F1-D947-4198-9DE6-A85DA55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DA418-2AE1-4562-8BD9-DF639697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EF27-9B09-4C97-819D-345CA329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8427-C9D1-4B0B-9DD8-4265A61C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6B389-3300-4ACE-BB49-40D250A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F7FB9-F294-40E1-BE5B-7564A88B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F903C-7D1C-4494-A498-2BD79659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6290B-659E-4004-A624-C25BDC7B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F1523-02BC-4183-97C0-B39B1877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152C8-838B-4FBC-BA43-D00725F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72780-0B78-4ABE-8C69-94EE691C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380A2-9E06-4BCA-BBB9-4C245F6E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DA3A6-900C-441A-BF7F-7FEE7EE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5069-1EDA-41C8-B802-A757FABA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6F42F-3527-4CCC-82F8-D93BD2FB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FDBEF-112B-4D5C-B138-B3FC9A2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8BB5A-BCDE-4A4E-A38B-367C589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1453B-FA62-41D3-B870-2A2AACC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947F8-49B9-421A-BE2B-F7AD498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50168-5927-48D1-967B-0B43BB02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1DF56-B2A2-43C1-9992-FB3EA2E3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4F3B7-399A-443A-8057-110E8B51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7A0C4-9A00-4D5F-B3AA-D620707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03AC27-262F-42BE-BF9C-2074B3F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CEE-44B5-46C6-BA43-681243BA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09F98-C9AA-4A9B-B4CC-671CCBB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F819F-2662-4C34-BF5A-07B2F34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F3E7E-4F8A-4E59-A657-FAD64C30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3B615-C002-4B83-9DBB-04265E3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E6D7A-308B-4E5A-8C92-65D4345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812575-806B-49BE-87EA-6130B26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C25330-771C-4949-8838-BA7FF6D9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9D6CD-B537-4CDC-A8BC-B62497FC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92C50-7F86-4FF0-84C9-4B619573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01564-F43D-467A-9A24-8FB0E4B9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9D3-C7F1-4106-90A9-818FBFFC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75ADF-2C52-4397-8AEB-5E95FFBD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EEE5B-DB8C-4B83-B7E1-D5B8AA1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9ABBBF-A0C3-4854-B131-5AC6B46C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D882F-BCB6-4097-8D4B-103F68F5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65C79-465F-4A80-B249-EBE752D9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9CE8D-688C-4201-8EE6-5FC4EC4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3E3EF-8B71-41E4-B0AB-B1B00549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D5D95-032D-4060-9519-3A718AE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77727-09A6-40A2-9C81-A05718C0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4898D-15FD-437F-A284-EE015E6C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0A90-EEEA-4A20-961D-BE3676C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65BB8-4597-42CA-9FCD-83939EE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FEDD2-D97B-4D03-A816-B589D9AF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09059D-6C2E-4136-A98F-42440A36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71282-42EF-472C-BD43-B0A7699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10D91-F89A-40DE-A175-782CE936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A8ECD-EFB1-4B24-AC51-2CFFB04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A7ECC-756F-4A4C-B4A2-56B5BA0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C0E9DB-B843-46AD-BDE6-5DB51057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21CE1-04D9-46C8-8548-A5A758F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4BF89-AD95-4A73-8F59-07F03D37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F3E-EFE5-4AD4-96D6-F78AD7D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034D0-20B0-4293-8153-073BD46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C9535-3726-44C4-AD45-1B23F104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071E4-2665-4343-A65D-132220F3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1C921-AA76-4FF9-887E-40A31E64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ACD02-D5DE-4BB2-801F-3B6680D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A3D37-DF6D-4DD1-B80C-DC396462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35248-5F84-48A4-AA65-91B48AB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44D45-C20B-44C6-83D7-C51D25F6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F3DEA-C2C1-4CBF-9216-DE069E0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0DE43-99D4-4AF8-BC70-F144CD3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CA46-275B-4F93-9176-0B5D5333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107D-4BD3-4764-97C1-70F6DA2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7700B-4FBD-4260-860E-8C1B6AA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F105D-EEE3-46E7-8BBB-177BBC6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EC9EF-AC2E-41A0-A488-9065057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55773-B4E3-4237-AF28-EA0CCB50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4D89D-E4BC-43B0-8556-75AEAB42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C7A6AB-63FE-4D49-AFC8-C4414DB9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5760E-5A67-43DD-89E8-B89BF8B2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8D855-D420-4CB7-A602-A5FC292C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23AEBC-E7B1-4C98-8003-9176557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52E9E-C80C-4D39-9C8E-5E04EBD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730-667C-4D68-82B1-629AEBB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C2737-8F10-4ABD-8FD6-B4E7D31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8F22D-063C-4298-9585-4E938A8C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F55AD-B44F-4D61-8F75-0E1A51F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45937-9FA0-4FE6-9534-BF05C556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A7CA56-935C-4514-AB15-D54C2FC7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6E7D2-F007-4353-8717-10C591D3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54670-F1A8-468A-B5AC-E0835A7A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DA1B9-708E-43D6-93A5-D4C541DD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20706-A4C7-4985-8A34-09D70460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A9BC7-43B1-40F4-A8DC-2863A59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E135-E374-4BFC-8175-E009091B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CD100-03B1-4E59-AA94-E309CE4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82A3D-5AAB-425B-A211-E2DD4C48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9F5F66-56C6-4A16-AA04-7C1A91E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31FCC-7027-4AA0-85D4-590A372E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7AC8CC-79DC-41E1-910E-2234E7E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BE846-6098-4C43-810C-E1B618E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AC67B-342E-406E-A1CD-ABA38B70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F2955-F67E-4A76-87C7-9EAE209A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02D1C-48F3-43B6-BFFC-1D4C4269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93566-8905-4591-BF19-815A3D97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2259-6387-4D8B-880D-CBCB4A9B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B20B6-A976-4632-8979-7AF9B03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6D1890-C9A3-498C-BE44-F08FFD58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71A14-2423-4594-84C0-53D86DD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3E4EB6-6081-45D7-9A9E-DB30CB8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00553-590E-4F94-B24B-7B30C378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93506-532F-477D-A62F-5CD1743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7E881-1527-4023-836A-797C09B8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85E2D0-39FE-43E0-BDDA-19F2E8B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34B7A-FF87-4AEA-8409-719FB36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404C01-3602-4848-B2DA-AE53C6FA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59A6-A718-41CD-BC45-2215946F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AD601D-C396-4CF4-8EE2-969CAE53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91619-6311-41C9-B621-6BC7E6A4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9219F-7976-43E8-844F-C09891C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709CD5-94F5-43DE-99FC-AA17FFB0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6CEA1-A09B-4F97-8753-B203CC0F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B1614-E710-4419-B255-BC319494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E3529-5BDE-46C4-860E-A8D36FFB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8F5D0-F263-4743-B6BF-DE0D314E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B3C6CD-4D9B-452B-8B58-A4145DFD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46D43-62EF-457D-8806-753235F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1E9C-14EF-4AFB-89A3-2995DA10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6C11C-839B-4A35-9571-2595503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4799B-7600-4C8A-A685-B5D795E5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80759-7DC3-4AE8-B499-05AA2969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E19A2-F0C8-4249-9C75-FF10D46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EC807-6ECA-4505-B237-9026E76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DFC9-FA6D-41A5-ADCF-ED427A07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303C-F95F-4F76-AFB2-BEF1005B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5FF-57D4-4823-8D5C-06B902F1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EF49-7BEA-41B9-B9AB-77680FEF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1E89-5355-4406-9836-0DD3CA9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A301-4A2B-4680-9B17-54F8313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2412-765A-4552-B4E3-5C0275E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B5A3-E455-4F49-A8C7-AFCA5E9B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84271-0068-4BE0-B931-940BE8AE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AD23-0F5B-4D27-8D72-E38CAC7F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C63A-6DE7-4F80-AAD9-50AF234E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32DB-3884-4065-9E55-F22F238A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A50F-BF4C-47B6-8B49-5CD54B7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D3F-C8BA-4D04-9BFE-B43C2A4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09BB-EAE8-4DA0-B634-428D661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3E0A-C1E4-48A4-8A6B-DCC1148F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B7C2-1107-4627-86FB-E5EF729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822E-840E-4092-B8C3-A539455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7CF1A-6898-4B9F-9841-5E4A95A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8F10F-32A1-4609-8554-06CFFE40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34AF-AD02-43A3-8B30-F235B668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D505-2495-47FE-B128-75D39FC2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24FA-BE32-4B31-AF2B-973ABC97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68E06-489E-4324-B4A1-4C3DC8C1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B65-2176-4F24-A3EF-594B70F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261D-4D24-44AB-809A-8526DA08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F5505-1DE5-4B10-90FE-7B475694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426D1-00A8-48E0-83E6-B38FEDF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FEBDE-D944-405F-8E4C-E7715D13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8445-AE48-4357-A260-5D06982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0A25F-E762-4583-A37D-59F0D7E4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D8BE6-65EB-44BD-8969-0DE75C4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4D3B-BA3F-48CC-BE43-28F7AECF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0E4DC-4B10-4736-891B-64950FF1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ABC4-F794-4478-92D9-7CC8B072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A56-0C33-46F0-8067-0ADCDD99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B9660-8D17-47C3-B8D6-D263189B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1FAC-9719-4E20-96A3-567B4B61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402D-D055-4FF6-B27F-0B30463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7378-85E6-4B15-A0B4-CCB31528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98479-FFE5-4B76-9CFE-0FEA6213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36ED-4EB1-481A-9402-E8B6A79C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B07A-9198-4187-A543-1096CC1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B20D-22FC-4228-890D-3E6A43A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82B44-169E-4EF2-8AA0-E7E3EA1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0DA6B-0EAD-4550-85FD-7FFEFDF6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CDE-7C58-42A6-9FD0-AA131ED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B5464-FF7E-4B83-8BFD-96C81EA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B5DB-374C-416B-AB99-E136493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7B3D-1138-47AF-B861-9EE4246D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9830D-864F-4E41-95F2-73C06F22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35FDE-8786-4BC3-BAEF-19E0684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0B76-D851-455F-85A0-E0FBB9C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01F5-273D-4038-9AA4-9632354B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F6A7-56B1-4B21-8007-C851F5EE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2E3B-7CDD-4A08-9DFE-BFB222E6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DF50-6C6E-4CBB-B589-F9AA7DDA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CBB-872C-4C56-899B-F4B87E22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BDBD-1CC6-406D-B30E-3617240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9261-A1C2-4DCA-9030-77369F2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8193-806E-4447-97E6-439B54E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3FCAB-1863-495D-B443-C104469F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CF005-00BE-418D-B039-0E9E8652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B0896-6CD5-46C0-8BA5-41A5AC2B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B598-2DF8-45B1-87EC-EAAC0D6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F2DD-C502-4BDA-8BDF-27450B77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24676-0ADF-4C36-BF5E-CC10CFF4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E762-4F23-4A25-BA53-18DF41BD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8CE-34F5-41CE-86B1-93C46019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017C-DFCD-4112-97D5-4FA4BD1C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80DF-FC1A-4323-BAD4-DE9667E2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EBED3-8C9F-4537-8A0A-00FF59F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C9EDF-ED9A-4190-AAFE-8B2DFD0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DA9F4-DD10-4638-8CF3-9D967D1F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D5636-5771-45EF-9BDC-87E35873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BAE76-7819-4675-81D8-38CCD27B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669FB-99E0-4B3A-8E70-AF8325D4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AE426-EEA6-4D5A-8015-3E94ECA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4F62B-8FF3-41CC-8FAE-75DBF59B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06A-04DF-4B89-B515-1D52976E7B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7466-35C5-478F-AC5C-FC57BE9DD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2D3F-9D21-46CE-AE3E-84E9F5713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4383-2243-4290-ABB0-4E3712775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F5B-933B-4985-AEED-D662FAD38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FAC1-DB26-4B8A-998B-F9F7D9E3A5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71B9-38B2-4362-95D4-825D83AEA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92A3-5DEF-45C0-9021-13A677B8FF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2FE-9452-4F8C-B5C6-0C3BDF361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CFAB-D73A-4503-B9EE-2B8E93D5C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142-34A3-4068-8269-19174B2C0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E80-B40E-4260-9C9D-CA6270728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56A8-41CE-4AD6-9467-0F105D3445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1DCA-7BA1-429C-9EDE-2C223670B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18D6-5628-4D0B-A76D-7B8C0D11B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36E7-D138-457E-A3D0-89FFCB2AE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444-CAF9-456E-9CE9-37938A237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105E-7620-4424-82A2-75854AF17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533-B0D1-4F12-9BF2-C2837FF754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5AE-CF82-42AD-B5FB-108F6B12A7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4F6-CDB9-4D05-BEA5-0CA4F29E85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109-9C3B-4F59-9579-F26FC07D9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64F8-E45E-4F00-85B3-0D6883CB9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C471-836B-4269-A228-51C1FCF303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4B2-1BA3-4053-89EB-FE38033FF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E19E-B0CA-4835-BA59-241875F13B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B65B-395E-4B0E-808A-A3A282A11C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1B84-8AFA-4025-9455-CE4289D3A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6C4-99B8-43E3-917E-872BFAF3D4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B9B9-313E-4FE6-A508-786EB030A9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128-5FB9-4E5E-80EB-0684A5B09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9536-47C5-4289-9B3E-F921494F82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4FE1-DDC9-4F9A-A526-5283D460E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9F84-2F74-41F6-B052-75841A89DB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6B71-092E-4203-9CA7-F2FC2E02D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3CC-4714-4875-B6EE-0633FB6CF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7CA2-9727-4B85-90F8-0A4485E84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FABE-078D-4ABD-A6CE-5661A3ACF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9060-8F17-40C6-BABB-B82B7CD02C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595-F511-4ECC-A511-113ACADD16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9760" y="3157560"/>
            <a:ext cx="45244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42800" y="1219320"/>
            <a:ext cx="8258400" cy="4419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3652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8800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95672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1744560" y="4559400"/>
            <a:ext cx="6772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847800" y="2124000"/>
            <a:ext cx="7448400" cy="26100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1" descr=""/>
          <p:cNvPicPr/>
          <p:nvPr/>
        </p:nvPicPr>
        <p:blipFill>
          <a:blip r:embed="rId2"/>
          <a:stretch/>
        </p:blipFill>
        <p:spPr>
          <a:xfrm>
            <a:off x="1657440" y="2695680"/>
            <a:ext cx="632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5120" cy="4896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00000" y="521964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5" descr=""/>
          <p:cNvPicPr/>
          <p:nvPr/>
        </p:nvPicPr>
        <p:blipFill>
          <a:blip r:embed="rId3"/>
          <a:stretch/>
        </p:blipFill>
        <p:spPr>
          <a:xfrm>
            <a:off x="1825560" y="2482920"/>
            <a:ext cx="1171800" cy="10191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8494560" y="2546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8604360" y="2971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8604360" y="3376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8594640" y="378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8379000" y="4221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8379000" y="4610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8388360" y="5041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8388360" y="544500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6:0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